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384-C243-4D08-90E9-ECC9ED88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BB3-8F49-44EA-A197-C5AA3517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E82-A28A-4A5E-9F80-EA11AD07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353-ECD4-4066-8354-2A5607DB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4CF-51C6-4A8D-9ED3-B8CE561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988-B1D5-4EC7-8964-355ECE8D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81D-BD67-4855-ADE1-44AE0353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451-D5D5-4E5F-858E-68A1C47B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3AA-8401-42BB-9CEA-6EC12AA1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72D-A041-432B-8957-47475E1E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03A-CBDF-423D-BFB9-3668B782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6A3-E5A9-43D9-B5D9-D361960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0B2D-772E-46C3-AC45-6BCD4C6E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USH Uni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g Cotton / Slave Tra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10-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’s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ave Community / Resistance &amp; Revolt Pages 321-3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families and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Nat Turner’s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ern Social Structure / Defense of Slave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ages 328-3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848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Planter E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lavery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ig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18-4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h Immigration vs. German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Machines / Revivalis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33-4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Machine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e Reform 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, What, Why,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ovements and Ide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38-4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son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/ Adv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opi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,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, Why, Where &amp;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 / Women’s Righ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42-4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1:46:24Z</dcterms:created>
  <dc:creator>School District U46</dc:creator>
  <dc:description/>
  <dc:language>en-US</dc:language>
  <cp:lastModifiedBy>School District U46</cp:lastModifiedBy>
  <dcterms:modified xsi:type="dcterms:W3CDTF">2009-10-20T11:46:40Z</dcterms:modified>
  <cp:revision>1</cp:revision>
  <dc:subject/>
  <dc:title>APUSH Unit 4</dc:title>
</cp:coreProperties>
</file>